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938-00F8-4A20-BFD7-FF739B96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628-A7A0-4B34-963F-F176A094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095-3A91-4A89-BCF9-3F253090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56D-7003-42C7-9501-BF30D8C1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B847-0422-44DD-9555-6A7666F2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96CA-74E5-42FD-8E47-34FB2909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9D3C-4E36-4E84-BCC2-B92C94B3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CA5E-C617-44D5-94FD-D254C899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23B3-9444-4686-A619-55BE9695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7628-9191-4761-8530-57884F76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AD90-4C7F-435B-BB2E-040AFE0F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67E-5E78-4B66-96B6-9D313708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7838-4508-42B8-9185-E3AEFE33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34C2-C8EC-4BF8-8E35-3C91A136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162E-1E01-4387-A740-57F6DA32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1D6C-6C46-4773-99D9-6BE0CE2A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328D-EBA6-4694-9CFB-17C62C1D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9C4-552B-4F6D-876A-BB707903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323-118F-45C8-AAE1-70823D1F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884-099C-4EAE-90C4-D84939EB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6B4-AC5F-4720-8F4A-5F394F2E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371-7E65-4FDA-BC16-4CF4F760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BAF-6DDA-440F-9219-2E734934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746-0A51-4F1F-8E04-B4AC4BE2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EBE6-0365-4D9E-80CC-7745FE0AC64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F481-B2DF-4EEC-AD2C-6EC1B179A97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2859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2920" y="1714680"/>
            <a:ext cx="864396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οξαν παρα ἀνθρωπων οὐ λαμβαν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ιστευεις εἰς τον υἱον του ἀνθρωπ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κυριος λεγει αὐτοις∙ Που αὐτους ἀγετε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Πετρος διδασκει αὐτους περι της βασιλειας παρα τοις πλοιο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ναβλεπομεν εἰς τον οὐρανον ἐνωπιον του ἱερ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ησους ἐκβαλλει τα δαιμονια ἐκ του ἀνθρωπου λογ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214200" y="1343160"/>
            <a:ext cx="807264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εριπατω ὑπο ἁμαρτιαν και κατα του νομου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Πετρος συναγει την ἐκκλησιαν εἰς τον οἰκον της ἀδελφης του Ἰακωβ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e are departing towards the s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You (pl.) are exhorting the brothers in the L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you (s.) keep the Sabbath because of the law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eople in the boat are worshipping the Lord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000240" y="135720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60280" y="1785960"/>
            <a:ext cx="888372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ν τῃ ἡμερᾳ του κυριου βλεπομεν τον θεον προσωπον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ος προσωπ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υριε, οὐ πιστευω εἰς αὐτ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οσκυνουμεν τῳ θεῳ ἐν τῳ ἱερ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ια την ὡραν ὁ κυριος ἀπολυει τον ὀχλ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εριπατειτε ἐν τῃ ἀγαπῃ του θεου κατα τον λογον αὐτ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αγγελος λυει τον Πετρον και παραλαμβανει αὐτον προς τους ἀδελφου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1071720"/>
            <a:ext cx="9001080" cy="55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τα την ἀρχην του σαββατου ὁ ῥαββι και οἱ υἱοι αὐτου οὐ ποιουσιν ἐργ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ου ὁ κυριος διδασκει περι του εὐαγγελιου της βασιλειας του θε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y gathers the sisters and they seek the Lord with the br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child dwells in the house of the Lord, and does not depart from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voice of God is [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στιν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bove the heavens and in their he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eople do works on behalf of the children because of the love of Chri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2436840"/>
            <a:ext cx="81435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.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 ἀρχῇ ἦ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ὁ λόγος, καὶ ὁ λόγος ἦν πρὸς τὸν θεόν, και θεὸς ἦν ὁ λόγος. οὗτος 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is on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ἦν ἐν ἀρχῇ πρὸς τὸν θεόν....ἐν αὐτῷ ζωὴ ἦν, καὶ ἡ ζωὴ ἦν τὸ φ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igh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ῶν ἀνθρώπ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5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2:46:41Z</dcterms:created>
  <dc:creator>Sarah</dc:creator>
  <dc:description/>
  <dc:language>en-US</dc:language>
  <cp:lastModifiedBy>Sarah</cp:lastModifiedBy>
  <dcterms:modified xsi:type="dcterms:W3CDTF">2009-02-25T20:03:48Z</dcterms:modified>
  <cp:revision>22</cp:revision>
  <dc:subject/>
  <dc:title>Slide 1</dc:title>
</cp:coreProperties>
</file>